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5160" y="739440"/>
            <a:ext cx="5345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3821-E52B-4756-AB40-1092906A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6BCF-016E-437B-9EA5-773D6C779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AB64-3FFC-4B60-BEAE-CBFE62B0A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9207-1511-4E1E-AC35-F49ACB75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D3DF-4A06-459C-A870-C895D8EB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384A-D443-4494-B05A-D5A43F1D2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3D16-2E1B-4E3F-B08F-76BBAB68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8B95-D57F-4D91-8D69-00DDE430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D74D-DE67-4265-8192-18B1007A7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15F1-8EB6-4794-A93C-4E1A3061B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B2C0-E218-4771-8857-A477FC7C3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C688-059B-46BE-8139-F0026FAD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1BDE-D30E-4EF6-856A-F12C3797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980B-47B1-4F28-9DEB-488A99561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990-DF8A-49E4-A31B-2E6C07DD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AFA-B450-46FE-8511-F56BDC8C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31B-7BAD-491F-BC01-99B35498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866-5A6C-4C02-A927-05CF7911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AC2-1E41-4AEF-86BB-5B87C2C8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135-7DE7-49E4-A7E7-CD6DB166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D08-FC40-4FC4-AAA9-74ECAB47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EB3-5DC4-4044-94A3-534CB59F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509-1B65-4DF2-9FD4-7F53C005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2AC-239B-4005-A665-0D5910E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7C7-BA1E-45AB-B9DA-95B3837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C7E-8D22-4AB4-A457-CEF4759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088E-64AC-45FA-B022-150D2B98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Georgia"/>
              </a:rPr>
              <a:t>Gloucestershire Firs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712880" y="2852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enius Regio Project EUR-EM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368520" y="3716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5 March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04520" y="620640"/>
            <a:ext cx="8420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nnover –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stry of Education Lower Sax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nah-Arendt School (specialised admin tr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ufsbildende Schulen Neustadt (Mechanics, Construction, Bakery, Catering,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nover Chamber of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steras -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hrska Gymnasiet(Constru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developing links through a Jules Verne scholar at Stroud College who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Head of a Technical Department in Bayonne, France next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76160" y="476280"/>
            <a:ext cx="8420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line Time Line of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 – Vasteras Preparatory visit to G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– Submission of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e – Hannover Preparatory visit to G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t/Nov –Hannover students to G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/Mar –Vasteras students to G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e – Glos students to Han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t – Glos students to Vaste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– End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04520" y="4762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cte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er awareness of programme amongst students, colleges,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d language compe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er cultural awareness and understanding amongst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onal material/advocates for future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d business 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work placement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ster an appetite for other mobility programmes e.g. VET, Enterpris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a programme for participation in the Erasmus Young Entrepreneurs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ion of international work within a wider ‘employability’ pi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C:\Documents and Settings\schaplin\Local Settings\Temporary Internet Files\Content.IE5\EDWQNB33\MC900434471[1].wmf"/>
          <p:cNvPicPr/>
          <p:nvPr/>
        </p:nvPicPr>
        <p:blipFill>
          <a:blip r:embed="rId2"/>
          <a:stretch/>
        </p:blipFill>
        <p:spPr>
          <a:xfrm>
            <a:off x="1136520" y="981000"/>
            <a:ext cx="77169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42680" y="428400"/>
            <a:ext cx="8420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urope 202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U's growth strategy for the coming decade.  It aims to make the E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deliver high levels of employment, productivity and social cohesion.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set 5 ambitious objectives - on employment, innovation, education, social inclusion and climate/energy - to be reached by 2020. Each Member State will adopt its own national targets in each of these ar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6"/>
          <p:cNvSpPr/>
          <p:nvPr/>
        </p:nvSpPr>
        <p:spPr>
          <a:xfrm>
            <a:off x="452520" y="285840"/>
            <a:ext cx="9001080" cy="63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Em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5% of the 20-64 year-olds to be employ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R&amp;D / inno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% of the EU's GDP (public and private combined) to be invest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&amp;D/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Climate change /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enhouse gas emissions 20% (or even 30%, if the conditions are right) lowe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 19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% of energy from renew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% increase in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ing school drop-out rates below 10% at least 40% of 30-34–year-o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ing third level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Poverty / social exclu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least 20 million fewer people in or at risk of poverty and social exclu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60520" y="476280"/>
            <a:ext cx="77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bjectives are addressed by 7 flagship initia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mart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agenda for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novatio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 on the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stainabl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efficient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industrial policy for the globalisation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agenda for new skills and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platform against pov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04520" y="404640"/>
            <a:ext cx="8420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th on the Mov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s to increase the chances of young people 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job by enhancing student and trainee mobility and improving the qualit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activeness of education and training in Europe. It will do this throug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dicated Youth on the Move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ation of non formal/inform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ion of a Mobility scorecard for nation states and individual cards for young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volunteering programmes for young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the EURES intranet to promote jobs 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streaming Erasmus for Young Entrepreneurs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on of apprentice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oung people to access work 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 and increased take up of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stering international exchange and co-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60160" y="765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nsors work experience in an EU countr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 Vocational Training(IVT) 2 – 29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rentices or full or part time students up to N/SVQ leve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ople in the Labour market (PLM) 2 – 26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ployed, self employed, work based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cational Education and Training Professionals (VETPRO) 1 – 6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ployees in business or training environment delivering training, professional 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 career advi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nts contribute to project management, travel and living costs, also prepa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language and cultural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60160" y="549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Gloucestershire JET(Job Employment Trai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 A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a strategic approach to international work placement to match other ‘employability’ initiatives and share with partn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intelligence and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and cultural awarenes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ity and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 and follow on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31440" y="62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volve thirty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ear engineering, construction and business/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nistration students from 3 Gloucestershire FE colleges in 3 week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ments with companies in Hannover in Germany and Vasteras in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a 2 year period.  Using Preparatory Visits, contacts have already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ed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W and the City Municipality in Ha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B and an IT subsidiary in Vast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ucester Cathedral and the Stroud Canals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04520" y="475920"/>
            <a:ext cx="84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K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group of stakeholders has been established to progress the project mad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First – the County’s Economic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ucester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u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st of Dean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of Gloucester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Educatio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ucational Business Partner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 to the JET project, the group is working on general ‘employabilit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23:02Z</dcterms:created>
  <dc:creator>Liz Wheatley</dc:creator>
  <dc:description/>
  <dc:language>en-US</dc:language>
  <cp:lastModifiedBy> </cp:lastModifiedBy>
  <dcterms:modified xsi:type="dcterms:W3CDTF">2011-04-27T18:26:56Z</dcterms:modified>
  <cp:revision>73</cp:revision>
  <dc:subject/>
  <dc:title>Gloucestershire First</dc:title>
</cp:coreProperties>
</file>